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23E-CD2E-47CE-938A-0BB84EEF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D49-138A-45E4-8988-F8E31A1F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F99-F9A4-4BD4-828E-2C839FD8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BFA-81B8-46AC-A728-17E5797A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2D8-0BD6-49F7-B83E-E31FB81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414-4E1F-417D-9547-2EC9EC04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193-3851-46BA-9EBD-8CD02967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F1E-2D8F-4D35-B646-8F8A0307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63E-B97E-4DCB-9CD2-F26194EB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2DD-1D9E-414D-BFC9-127C0A6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794-CC72-4C0E-9BAA-887E49E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625-A22F-4823-A6EF-3028CA2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D65C-DE0B-4A82-9625-7FD8CF46E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 the Cla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 lesson on using PowerPoint to educate you class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sound to your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5880" y="5410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pe03635_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96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2:31:01Z</dcterms:created>
  <dc:creator>Richland School District</dc:creator>
  <dc:description/>
  <dc:language>en-US</dc:language>
  <cp:lastModifiedBy>Richland School District</cp:lastModifiedBy>
  <dcterms:modified xsi:type="dcterms:W3CDTF">2010-05-10T12:31:10Z</dcterms:modified>
  <cp:revision>1</cp:revision>
  <dc:subject/>
  <dc:title>Teach the Class </dc:title>
</cp:coreProperties>
</file>